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522-B0CC-4658-820E-699AA3A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8AB-B6E3-496F-AAE7-59772DE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58C-1C84-4806-AEED-EED70EC5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96F-E30D-4805-8C56-48CC2B42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6DD-1BB9-46E0-BBDD-2D1F6492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66B-D6E8-49E8-8920-A918F8A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749-C339-4CC6-96CF-D34CC3E3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3B6-5086-4C7B-A94C-9BB39B8B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A9C-8719-4B5E-BAB9-9C4CF73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756-A0AF-4F22-967C-9AA4458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613-0419-4CF6-8DC1-E809AFCB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CAC-DF12-41AE-810C-5C68946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25B-8C43-42BE-8659-50E283BC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age, Communication &amp; Disposal of data &amp;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 &amp; Information Systems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s to data &amp;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nforma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thics,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ral principles or guidelines that govern particular practices or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lst morally questionable, not against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orkplace responsibilities, both employer &amp; 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des of conduct &amp; computer user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de of conduct, - behavior expected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uter use policy, establishing rights &amp; responsi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of employers Vs privac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ing monitored by automatic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okies to stor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, means of regulating interne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ming, sending unsolicited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ts to data &amp;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of data security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che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: measures to minimise loss or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, Accidental Vs intentional da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 Da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viruses, payload is the action virus designed to carr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s, attaching themselves to email messages, clog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ing/C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ers gain unauthorised access and view data but not ta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ckers gain unauthorised access to damage, alter, destroy or st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Intentional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ering with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changed by personnel with access rights who sell information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intercepted whilst being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ft of information &amp; hardware &amp; van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Accidental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older version of file over newer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a disk contain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rrectly shutting down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file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xtensions le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ers improper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failure/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4:12:24Z</dcterms:created>
  <dc:creator>Kelvin Baird</dc:creator>
  <dc:description/>
  <dc:language>en-US</dc:language>
  <cp:lastModifiedBy>Kelvin Baird</cp:lastModifiedBy>
  <dcterms:modified xsi:type="dcterms:W3CDTF">2007-07-09T05:00:42Z</dcterms:modified>
  <cp:revision>3</cp:revision>
  <dc:subject/>
  <dc:title>Storage, Communication &amp; Disposal of data &amp; information</dc:title>
</cp:coreProperties>
</file>